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B3F-C54B-49CC-ADD0-D6317CEE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DCAC-B2F2-4C00-8E52-E0E29F88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1A4-1BB5-406A-B81F-C80715F7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B609-7843-438B-B269-37EAA5CB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F04E-442A-4E0D-BA8A-8194D915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2AB5-F1A5-4409-9FDC-EC2B80C0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5F24-076A-4554-82AD-19C46A74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7287-93DB-4DDD-B237-9DCC43ED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F720-51AE-4CC8-A410-8BA425C1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1F2F-119E-4912-A693-51EBAC77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3B6F-8602-4FA1-B802-8E4737D5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1E2-F278-4BB7-8890-01A76ECA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5E8C-E5B2-4EF7-852F-6A2B8581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2EA5-80CF-4B29-B2D4-EDE037D1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A110-E6A4-4EC3-B208-605615D4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A6A4-BC3B-4B85-9E51-2EB7A730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631F-4ABA-4166-8353-997432ED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5917B-61DB-42C4-9F0C-5CF9CBC0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0EB2D-C098-47B2-9648-9B1CA62C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6BDC33-6CD2-4B82-A9FC-795A8694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EBAF3-DAF0-490A-A937-E795E995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5D19B-38F5-48D2-A751-1C729963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42B-3F25-4651-91EE-92192356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3F047-2E7E-4A63-9E0A-C91E916B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CEE73-94FD-45BC-B51C-2AC35FE7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BFFFF7-C61D-429F-AFEE-BEA41628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CC768-55D6-4B27-99D0-AF653A96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C31AC-1152-4027-A27B-493CE08B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1848B-B884-412F-B54D-D37183EF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43C0F-DCE7-4122-BB0F-0D76E033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CCDA4-4EF4-4CF2-9850-77D287B6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24CBC-A359-4ED1-B9A0-D7900937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19166-F6CC-4ECC-98DA-6806838E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0B6-6A54-45CD-9A53-8379AD3B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B820D-0400-484F-86D5-B0D4C31A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BE6E3-D9AB-46F4-889E-13D991AA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57581-42C0-4666-97DD-6C2B0CF8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0445D-4F92-4D9A-8B43-BA842D21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088B0-2FCA-4A08-AF47-925776FC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D70ED-8C8C-4051-B86A-A2DE5CE5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A01AE-9FC2-4EF6-B065-667D1640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3CFB0-CA63-4CBC-869F-3DB25F39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F38DC-E5AB-411F-8161-7C3D1952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F22592-E27B-4C9F-9C5F-4028C346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A59-9397-445B-89B4-B81EFD71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090152-61B4-4254-8271-95C73736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5CD35-DEC0-486C-A0B2-D664798F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43DBA6-8065-4568-A3E1-056C3FA9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42354E-B667-4ADB-9D26-3F8493FA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0DFF9F-3DF6-4E2D-9106-F17A7F20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6F9CB0-C7AC-4124-94DA-E6DCE81A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064804-5EEA-4639-AEE7-98F6F1CE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2622BA-3492-4712-A533-A71F18C2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5E0C5E-4276-4C98-9470-C593926C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3D55CC-0D9A-4C18-AC61-2F4D68D7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381-7A7B-4B45-9A9C-3239F740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6FAE69-6FF0-4B22-9FCF-672C963F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ED39D0-5F2B-4619-ACC4-F60EF6F2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C20DB7-1A12-4741-AE21-BD1C351E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F7C4F1-987B-4AC9-ABBC-664064FF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0CD47B-076D-47DA-8E5C-96F2605F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D7A550-F509-4038-8054-D55743C9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BD805F-5727-44E6-8FE1-012DADCB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850BFC-C80F-46D2-B118-05128F09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62F7C0-0A39-444D-9C0A-90830404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7E42BA-ACDE-4070-91CC-4AA74E84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33FB-861A-4140-AA60-D21A0DAA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5E1D33-636D-4C7D-9A16-8EF6E4F6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73552C-FFC0-48CC-9593-9048600F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B7E58E-3CB5-4277-9000-7E5B1402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A151AA-1094-49EA-A4A5-FB56A3E1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25EF9B-FAD8-4740-BF30-CBCD4760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C407E7-4531-4D82-8F6C-9FDB8356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AE30C4-201F-4D3D-8563-93243643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9544E-255C-4E38-8D25-097A1567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33D9C3-92CE-4488-AC2B-789E5DD1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0D3899-D1E8-4C55-A116-B2BE9B3B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214-6FDA-4074-AA23-7B73F544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740081-5E9E-4027-ACC5-425F23A1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84B876-9402-42EC-8D35-13243B4F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9A6E31-25B5-4E47-8DD0-51ABCA91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6517F5-4788-4E6F-98EE-0ECED5A6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5CBA3F-633B-43B3-BE24-2AEB94ED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86B0-A301-49A8-9185-8FC67D7E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0A5A-9B2B-421A-BADD-FA18ED8E5DC6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59A5-2F00-413B-9737-CC3FB900B539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3DB2-436C-48AF-B899-F88E6827D957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7E26-C3B1-4B3F-A9BC-A6F8ACF5EC52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49C3-AAE8-4903-A92B-0B46BE486770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ector reto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ector reto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ector reto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8C45-F9C9-4265-AC0E-93FA960C4B3C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ector reto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FC0D-BE9C-4EAA-930B-F109EA6939F4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EMA 25 - AVALIAÇÃO COM O USO DAS TECNOLOGIAS EDUCACIONA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2492280"/>
            <a:ext cx="6059520" cy="26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ROGETEC Eliane Nev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. E. João Ribeiro Guimarã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Bandeirantes - M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68000" y="333360"/>
            <a:ext cx="8064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Formas de avaliar usando as TIC na E.E. João Ribeiro Guimarães: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*Uso da Plataforma Moodle usando as ferramentas: Fórum, Chat, Wiki, Envio de tarefa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*Após disposição de conteúdos na plataforma Moolde, autoria dos alunos usando editor de texto e o Impres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* Filmes da Youtube/TV Escola, com finalidade na aprendizagem, desenvolvendo questionários, elaboração de teatros, produções de textos, etc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ITUAÇÕES DE AVALIAÇÃO NA EEJRG COM USO DAS TIC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23640" y="1125360"/>
            <a:ext cx="8569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* Envio de arquivo único – Plataforma Moodle – Onde alguns professores avaliam e dão devolutivas aos aluno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* Conselho de classe através do Google Driv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* Avaliações Institucionais: SAIEMS, OBMEP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* Uso da ferramenta Fórum -  Plataforma Moolde – Onde após o conteúdo explicado, o aluno deixa sua contribuição e é avaliado pelo professo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12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RIENTAÇÕ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79280" y="62028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* Uso do Google Drive, onde o professor pode contar com gráficos demonstrando a aprendizagem de cada aluno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* Utilizar as ferramentas da Plataforma Moolde como sua aliada na hora da avaliação usando por exemplo o recurso do questionário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* Trabalhar mais a autoria dos alunos usando o editor de texto (writer) ou o Impress. Após, avaliá-los mediante a exposição dos trabalho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* Uso do blog com questionários visando a devolutiva para melhoria da aprendizagem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1T19:13:16Z</dcterms:created>
  <dc:creator>ElianeRaul</dc:creator>
  <dc:description/>
  <dc:language>en-US</dc:language>
  <cp:lastModifiedBy>ElianeRaul</cp:lastModifiedBy>
  <dcterms:modified xsi:type="dcterms:W3CDTF">2015-09-01T01:07:03Z</dcterms:modified>
  <cp:revision>10</cp:revision>
  <dc:subject/>
  <dc:title>Tema 25 - Avaliação com o uso das Tecnologias Educacionais</dc:title>
</cp:coreProperties>
</file>